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DCF-3781-467F-9095-CFB5AB01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F94B-156B-4742-BB82-22141B48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6169-E9A7-42A9-A953-706DAAA6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73D-34D8-4939-BA17-0A0C80B7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C52-D053-4C74-9BCE-BC664C25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83E-ADBE-441D-A914-2FD43F07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4D4-7C79-4CE0-9959-37318C9A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73B-399A-460B-A358-71700357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FDD-2F58-40FD-B5AD-31FCA748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CF0B-1B7A-4A3A-B745-09406104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848-DF3E-4DF4-BD84-97810959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B56-49F4-48DB-AC98-8B07261A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3C85-3970-47B6-A078-9BCB9C5C6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e3FG4EOgyU" TargetMode="External"/><Relationship Id="rId2" Type="http://schemas.openxmlformats.org/officeDocument/2006/relationships/hyperlink" Target="http://www.youtube.com/watch?v=xSB9LIXEtTw" TargetMode="External"/><Relationship Id="rId3" Type="http://schemas.openxmlformats.org/officeDocument/2006/relationships/hyperlink" Target="http://www.youtube.com/watch?v=xSB9LIXEtTw" TargetMode="External"/><Relationship Id="rId4" Type="http://schemas.openxmlformats.org/officeDocument/2006/relationships/hyperlink" Target="http://www.youtube.com/watch?v=xSB9LIXEtTw" TargetMode="External"/><Relationship Id="rId5" Type="http://schemas.openxmlformats.org/officeDocument/2006/relationships/hyperlink" Target="http://www.youtube.com/watch?v=0BanwQzBQGM" TargetMode="External"/><Relationship Id="rId6" Type="http://schemas.openxmlformats.org/officeDocument/2006/relationships/hyperlink" Target="http://www.schnitzelbank.com/poster.htm" TargetMode="Externa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chnap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leiner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peak English in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chnitzel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fried and Ro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Sigfried and R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ünchen steht ein Hofbräuh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6:18:56Z</dcterms:created>
  <dc:creator>udsd</dc:creator>
  <dc:description/>
  <dc:language>en-US</dc:language>
  <cp:lastModifiedBy>udsd</cp:lastModifiedBy>
  <dcterms:modified xsi:type="dcterms:W3CDTF">2009-10-13T18:18:54Z</dcterms:modified>
  <cp:revision>3</cp:revision>
  <dc:subject/>
  <dc:title>Sigfried and Roy</dc:title>
</cp:coreProperties>
</file>